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174D6-B9DD-409B-AD29-425AEF83D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B8431-39E7-49F5-92A4-69CB1AB27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6775E-56E7-472A-A61E-5B12AA0EC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2355F-F6A2-493F-9ECA-65742C52F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37E2-2F9F-49CB-86D1-1E4C65271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5CAE-8464-426A-A464-1835B3033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41637-8156-4717-8F74-4A60230EB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6B33C-0E90-41D6-85F6-02A5A3ABF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13583-DC84-4C00-BF3E-3E0CED674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23B85-0519-4543-8D1C-7CD65F382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9927-5311-4B5F-B2E2-F0E1FCA00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CED3-621F-4E90-AD8F-A3234BE31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73C02-369C-4044-8310-F1B361DF0B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447920" y="380880"/>
            <a:ext cx="6400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The  Adventures of  Big  Thumb Guy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295280" y="1600200"/>
            <a:ext cx="6248520" cy="52578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 rot="964800">
            <a:off x="7620120" y="5029200"/>
            <a:ext cx="1295280" cy="16002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 rot="20008800">
            <a:off x="380880" y="5181480"/>
            <a:ext cx="1109880" cy="1371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6019920" y="1905120"/>
            <a:ext cx="2743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750000"/>
                    </a:gs>
                    <a:gs pos="100000">
                      <a:srgbClr val="ff00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$2 a comic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750000"/>
                  </a:gs>
                  <a:gs pos="100000">
                    <a:srgbClr val="ff00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4T15:10:11Z</dcterms:created>
  <dc:creator>SAISD</dc:creator>
  <dc:description/>
  <dc:language>en-US</dc:language>
  <cp:lastModifiedBy>SAISD</cp:lastModifiedBy>
  <dcterms:modified xsi:type="dcterms:W3CDTF">2010-04-14T15:43:09Z</dcterms:modified>
  <cp:revision>2</cp:revision>
  <dc:subject/>
  <dc:title>Slide 1</dc:title>
</cp:coreProperties>
</file>